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A1C-13C5-41B3-95F6-E95BF2A0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572-2AFC-4617-B3CA-6A1146D9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C7EB-B6AD-4A5F-BEE8-3C9DEA6D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D96F-721D-4C7C-9487-C607830B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71D-CB56-42A4-A858-5B7D72CF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6498-3BF4-4D7E-9745-7A0C275C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4BF3-F17E-4E50-811F-F2D2AA7B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93B-6450-4106-8669-DCF232E2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D5A3-C2DD-4BA3-A17E-B82F9D19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8C6-E362-4024-B17E-DDD704CC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0F4-988B-401E-97A2-DDDA31F2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A9FC-A207-4CCA-B56B-F22C1B68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1AC1-0A8C-48F7-8798-6DCEBEFA0D6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1 2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 de Vries</cp:lastModifiedBy>
  <dcterms:modified xsi:type="dcterms:W3CDTF">2003-07-04T14:16:03Z</dcterms:modified>
  <cp:revision>1</cp:revision>
  <dc:subject/>
  <dc:title>PowerPoint Presentation</dc:title>
</cp:coreProperties>
</file>